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09F-F9B6-490A-92E2-01DFF2AB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5C1-89EC-43E1-ABD0-E80711EDE58C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61E-D19B-4CD1-9857-EB5A40F7BCF3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5B3-3F64-42D9-842D-5B254AADAB8C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58E4-F770-4F13-AFF3-C918F28DAA4D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C931-8045-4EF7-B3B3-04B367B78368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7D0-0BDB-467F-BDB9-BF62BE78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EFD-9CED-4873-93BE-C60F5C9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008-B499-4506-91C7-C95E4812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42A-1137-4970-A5B0-3415FB26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2F9-E18C-4A44-9040-108046EC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B37-EA85-4AA9-9119-3A10C80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237-DFB6-4570-8DDF-EA025D0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1C5-6B41-424C-BE55-7AC81CE9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048-55E7-46F9-A0ED-3270D79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DB1-93DB-4370-AB6D-2AC3D41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030-C9A7-4C32-9A1C-7F0C8FC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B84-C892-4B37-A9EF-2FDF5A7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8ef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AB0-27CC-4674-AE62-45DDA0477045}" type="slidenum">
              <a:rPr b="0" lang="en-US" sz="1400" spc="-1" strike="noStrike">
                <a:solidFill>
                  <a:srgbClr val="00b8ef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p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r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a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i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n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 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a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n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d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 B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r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u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i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e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endParaRPr b="0" lang="en-US" sz="65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0b0"/>
                </a:solidFill>
                <a:latin typeface="Century Gothic"/>
              </a:rPr>
              <a:t>By Kenzie McBride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3880" y="3581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pic>
        <p:nvPicPr>
          <p:cNvPr id="53" name="Madagascar - Exit Windows.wav" descr=""/>
          <p:cNvPicPr/>
          <p:nvPr/>
        </p:nvPicPr>
        <p:blipFill>
          <a:blip r:embed="rId2"/>
          <a:stretch/>
        </p:blipFill>
        <p:spPr>
          <a:xfrm>
            <a:off x="0" y="660888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72072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00b0"/>
                </a:solidFill>
                <a:latin typeface="Century Gothic"/>
              </a:rPr>
              <a:t>What is a Sprain?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90827"/>
                </a:solidFill>
                <a:latin typeface="Century Gothic"/>
              </a:rPr>
              <a:t>When a joint is suddenly or violently stretched</a:t>
            </a:r>
            <a:endParaRPr b="0" lang="en-US" sz="33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117000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00b0"/>
                </a:solidFill>
                <a:latin typeface="Century Gothic"/>
              </a:rPr>
              <a:t>What is a Bruise?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90827"/>
                </a:solidFill>
                <a:latin typeface="Century Gothic"/>
              </a:rPr>
              <a:t>A blow to the part of the body</a:t>
            </a:r>
            <a:endParaRPr b="0" lang="en-US" sz="3300" spc="-1" strike="noStrike">
              <a:solidFill>
                <a:srgbClr val="00b8e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00b0"/>
                </a:solidFill>
                <a:latin typeface="Century Gothic"/>
              </a:rPr>
              <a:t>How to treat a Sprain or Bruise…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Do </a:t>
            </a:r>
            <a:r>
              <a:rPr b="0" i="1" lang="en-US" sz="2800" spc="-1" strike="noStrike">
                <a:solidFill>
                  <a:srgbClr val="c90827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 use the sprained or bruised area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Elevate the sprained or bruised part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Apply cold packs for the first 24 hours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If pain and swelling do not stop, see a doctor 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68" name="owww.wav" descr=""/>
          <p:cNvPicPr/>
          <p:nvPr/>
        </p:nvPicPr>
        <p:blipFill>
          <a:blip r:embed="rId2"/>
          <a:stretch/>
        </p:blipFill>
        <p:spPr>
          <a:xfrm>
            <a:off x="0" y="660888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00b0"/>
                </a:solidFill>
                <a:latin typeface="Century Gothic"/>
              </a:rPr>
              <a:t>This is why we need to have healthy bones so sprains and bruises don’t happen!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28600" y="3657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0827"/>
                </a:solidFill>
                <a:latin typeface="Century Gothic"/>
              </a:rPr>
              <a:t>So, DRINK MILK!!</a:t>
            </a:r>
            <a:endParaRPr b="0" lang="en-US" sz="50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377720" cy="137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55:16Z</dcterms:created>
  <dc:creator>Pie Guy</dc:creator>
  <dc:description/>
  <dc:language>en-US</dc:language>
  <cp:lastModifiedBy>Pie Guy</cp:lastModifiedBy>
  <dcterms:modified xsi:type="dcterms:W3CDTF">2011-05-25T16:05:59Z</dcterms:modified>
  <cp:revision>9</cp:revision>
  <dc:subject/>
  <dc:title>Sprains and Bruises</dc:title>
</cp:coreProperties>
</file>